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AF4D-A78E-40AB-84F9-52AFBC53FB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CFBC-AEDC-4399-859D-E92E890AA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8EF8-F546-40C8-8755-12064C137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54CA-C885-4D63-BAC5-42F97E4E2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522-AB28-454B-91A0-5EF0A1781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6DB-8B1C-4DAB-B3BE-52DE0DF2E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A82C-05C7-45B1-AAED-254E99FED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F2A1-A0FE-4D35-B3B1-9DECC57EC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AB19-9BA5-4DB8-AC88-E23BFD5AB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828A-3252-4270-BDC4-5B7F64A0B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407-6C78-4751-B7AE-A06D5D26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F30-7584-42F4-9303-CC39425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382-7808-432A-94EC-C289F3CE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793-89D1-426F-9B5E-DC07FD1F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7DF8-C19D-4263-BBB8-A5BC705A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B183-9124-4717-AD25-AFA707FE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EB55-59DA-4D97-9AAB-95AB3121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6A38-46AC-4121-8BFC-98FC3256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9A33-244B-4F24-A0D9-1E029F52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0AC-846B-4679-BE7F-B61BC33B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96DB-84DD-4A70-B1C6-8E0A0BB3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65E-AD22-435D-A26F-7D7FE5F6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8C1C-3042-448B-B589-52300CE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F88A-321C-4533-B175-826C4B0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7EF6-BF5A-47EC-8F00-1D355AF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1489-E4C5-4B93-9675-8642CFC3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E161-395C-4C0C-82CD-05CEFBFF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B283-40F9-4667-BDD0-06EBEF14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14FC-A0C1-4561-819A-422CCD12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3D4A-30C7-4988-9343-A0A0B358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6349-F2E1-463D-BC68-6281C7B3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6AD3-1D78-423B-8CBA-0DA2C5E5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AEA-61E7-4A53-8C9E-2926A9AB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ECF4-D2E4-4887-B3DC-5D6CB322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34184-C904-4767-B319-76D2CE73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6E72-58E8-4220-9ED3-A6D959D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D497-C4A0-494A-B765-47759B9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AFB6-EFE6-4EEC-9C80-8E45799C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87DF-EC56-4C45-B46C-15E50FA3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6FFF-91EC-4D38-A41C-3981EDC9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18A85-5847-415B-90B4-FB9EC684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0F57-EBC1-4715-B393-C170CC8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DBE46-D514-4B48-B526-A63DDACF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D20-72B8-42CC-B8E9-67DEFFA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AAB4-BF61-4354-ABAA-CABC8077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C11E-235E-4978-BE55-CEDE21E3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E4C8-5AEF-4604-9CAB-E5CB6EE3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CA71-043D-44D0-ABEF-3B76C37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7297A-0481-4853-9561-0A74582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1E55-A4D1-430B-A418-2B7D4D92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2AF24-DBE8-4D12-AC79-A900F37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6917-D43F-4A1A-B8CD-92587976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3775-03A0-4BA4-BEA7-9C847685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BA7-5058-478E-9E0C-3550AE42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C3F-416A-4E22-90FD-B7A5D44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E5F-D90C-41A1-93C1-5D4F8B6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945-CA4E-41D0-87F1-FDA3689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6F3-B960-403B-8224-EC858CB2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B744-C8CB-43B7-9629-15717D7ED9CF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CF66-22BD-497B-8A05-5AA2E4EF03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C8B8-0276-4FA7-BED2-4CE88575F8F8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447-D570-475F-9E73-490EED4286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F162-ECEB-4B74-9A9E-52983DD37AC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EF33-752F-4909-BDFF-1FCD2F24AD8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E95F-07DC-4EB2-81FD-9E3881A5D71C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4B27-350E-4A68-92F9-04EB6D92D0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hyperlink" Target="http://www.asij.ac.jp/elementary/iTeacher/netiquette.htm" TargetMode="External"/><Relationship Id="rId4" Type="http://schemas.openxmlformats.org/officeDocument/2006/relationships/hyperlink" Target="http://www.uni.illinois.edu/library/computerlit/netiquette.php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755640"/>
            <a:ext cx="7858080" cy="1335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iffany Bra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Dana Rutkowsk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ilkes Univers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merging Technolog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523800" y="6825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7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hat i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netiquett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?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word 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netiquett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is a contraction of the words Inter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nstantia"/>
              </a:rPr>
              <a:t>net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n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nstantia"/>
              </a:rPr>
              <a:t>etiquett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Netiquette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s a set of rules that we follow for behaving properly onlin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2"/>
          <a:stretch/>
        </p:blipFill>
        <p:spPr>
          <a:xfrm>
            <a:off x="523800" y="6825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028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creates good behavior for youth while on the Net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you use netiquette you are setting an example as a positive role model for anyone who is conversing with yo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member that there is another person on the other end of the conversa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19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2"/>
          <a:stretch/>
        </p:blipFill>
        <p:spPr>
          <a:xfrm>
            <a:off x="530280" y="225360"/>
            <a:ext cx="7778520" cy="14749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ep your passwords private, even from your best friend! No one should ever ask you for your password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e only your Log-in Name and/or e-mail address when chatting or sending e-mail. Never give out personal information like your name, address, or phone numb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nge your password periodic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2"/>
          <a:stretch/>
        </p:blipFill>
        <p:spPr>
          <a:xfrm>
            <a:off x="530280" y="450720"/>
            <a:ext cx="7778520" cy="1481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ver  write anything that you would not write on a post ca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eat other people’s conversation with respec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ted messages should not be s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 not give out your address/phone numb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llow the golden rule, “Don’t talk to strangers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2"/>
          <a:stretch/>
        </p:blipFill>
        <p:spPr>
          <a:xfrm>
            <a:off x="603360" y="225360"/>
            <a:ext cx="7785000" cy="1474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on't make the mistake of thinking that you know someone after having "met" him or her online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e mindful of what personal information you are posting on you blog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o not post anything that you would not want your parents to rea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2"/>
          <a:stretch/>
        </p:blipFill>
        <p:spPr>
          <a:xfrm>
            <a:off x="530280" y="530280"/>
            <a:ext cx="7778520" cy="1474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Log off compu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rsonal information is PERSONA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ever make plans to meet someone you met onlin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You never know who’s on the other end that you are talking t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2"/>
          <a:stretch/>
        </p:blipFill>
        <p:spPr>
          <a:xfrm>
            <a:off x="530280" y="682560"/>
            <a:ext cx="7778520" cy="1255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asij.ac.jp/elementary/iTeacher/netiquette.ht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uni.illinois.edu/library/computerlit/netiquette.ph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6:03:49Z</dcterms:created>
  <dc:creator>Tiff</dc:creator>
  <dc:description/>
  <dc:language>en-US</dc:language>
  <cp:lastModifiedBy>PA Department of Education Classrooms for the Future</cp:lastModifiedBy>
  <dcterms:modified xsi:type="dcterms:W3CDTF">2009-11-02T01:07:24Z</dcterms:modified>
  <cp:revision>12</cp:revision>
  <dc:subject/>
  <dc:title>Netiquette in School</dc:title>
</cp:coreProperties>
</file>